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4AB73F-0830-4324-A32D-EA30583EFB7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E70600-3899-4712-B4C7-7398EF071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A17D8E-C8E2-4ED2-8772-AA650D27C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0EFACC-7220-4A38-962B-4232285E6A6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F5F0BB-93E5-4A5C-AD77-0B641F3B7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F346C3-95C1-4631-9946-46A8ECE59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5AEE35-95FE-4632-9797-FB502A918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080EF8-672E-4B47-8B4C-0AA8BE83A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E3F6C3-8292-4910-B40C-322E2F506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FFF250-F94F-4782-A6FF-CDB4DCCE3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886C70-377A-4801-B101-34E9F9FFC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E73FFD-E5FD-49B2-BEBF-8298E43C0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BE24C-BF8C-458B-B79D-51421D55913E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12360" y="2205000"/>
            <a:ext cx="43196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第五章 </a:t>
            </a: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康复护理技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标题 1"/>
          <p:cNvSpPr/>
          <p:nvPr/>
        </p:nvSpPr>
        <p:spPr>
          <a:xfrm>
            <a:off x="1044720" y="5013360"/>
            <a:ext cx="38163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第一节 体位摆放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A9A9E-3962-445B-80EB-A79C2D649145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571320" y="2285640"/>
            <a:ext cx="7816680" cy="31431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预防或减轻痉挛和畸形的出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使躯干和肢体保持在功能状态的作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定时变换体位有助于预防并发症的发生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" name="Text Box 4"/>
          <p:cNvSpPr/>
          <p:nvPr/>
        </p:nvSpPr>
        <p:spPr>
          <a:xfrm>
            <a:off x="6294240" y="40464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体位摆放的目的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911AC-9C62-4D14-993F-83C60AFAC6C7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571320" y="1844640"/>
            <a:ext cx="7816680" cy="38894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ts val="4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尽早进行体位摆放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ts val="4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定时变换体位，预防并发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ts val="4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动作轻柔，保证患者安全；选择合适体位，避免半卧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ts val="4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手、脚底不放置东西，预防足下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ts val="4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及时调整体位，保证患者舒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Text Box 4"/>
          <p:cNvSpPr/>
          <p:nvPr/>
        </p:nvSpPr>
        <p:spPr>
          <a:xfrm>
            <a:off x="5736960" y="47772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体位摆放的注意事项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2124000" y="2998440"/>
            <a:ext cx="612144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Verdana"/>
                <a:ea typeface="华文新魏"/>
              </a:rPr>
              <a:t>二、常见疾病体位摆放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C2BF8-16F4-4453-A5E5-16AC4EC8A54D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571320" y="1844640"/>
            <a:ext cx="7816680" cy="38894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ts val="4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健侧卧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0" name="Picture 4" descr=""/>
          <p:cNvPicPr/>
          <p:nvPr/>
        </p:nvPicPr>
        <p:blipFill>
          <a:blip r:embed="rId1"/>
          <a:stretch/>
        </p:blipFill>
        <p:spPr>
          <a:xfrm>
            <a:off x="2195640" y="2708280"/>
            <a:ext cx="4533840" cy="272556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5"/>
          <p:cNvSpPr/>
          <p:nvPr/>
        </p:nvSpPr>
        <p:spPr>
          <a:xfrm>
            <a:off x="7152120" y="40464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脑损伤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5CD11-578B-4958-859F-98474C48C5D1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571320" y="1844640"/>
            <a:ext cx="7816680" cy="38894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ts val="4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患侧卧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4" name="Picture 4" descr=""/>
          <p:cNvPicPr/>
          <p:nvPr/>
        </p:nvPicPr>
        <p:blipFill>
          <a:blip r:embed="rId1"/>
          <a:stretch/>
        </p:blipFill>
        <p:spPr>
          <a:xfrm>
            <a:off x="1908000" y="2781360"/>
            <a:ext cx="4591080" cy="264168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5"/>
          <p:cNvSpPr/>
          <p:nvPr/>
        </p:nvSpPr>
        <p:spPr>
          <a:xfrm>
            <a:off x="7152120" y="40464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脑损伤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88E49-F756-4D13-9064-45FDF2702727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571320" y="1844640"/>
            <a:ext cx="7816680" cy="38894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ts val="4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仰卧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8" name="Picture 4" descr=""/>
          <p:cNvPicPr/>
          <p:nvPr/>
        </p:nvPicPr>
        <p:blipFill>
          <a:blip r:embed="rId1"/>
          <a:stretch/>
        </p:blipFill>
        <p:spPr>
          <a:xfrm>
            <a:off x="2124000" y="2492280"/>
            <a:ext cx="4572000" cy="301788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5"/>
          <p:cNvSpPr/>
          <p:nvPr/>
        </p:nvSpPr>
        <p:spPr>
          <a:xfrm>
            <a:off x="7152120" y="40464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脑损伤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5B906-078B-4A35-8B97-667B4FB22E2E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571320" y="1844640"/>
            <a:ext cx="7816680" cy="38894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ts val="4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仰卧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62" name="Picture 4" descr=""/>
          <p:cNvPicPr/>
          <p:nvPr/>
        </p:nvPicPr>
        <p:blipFill>
          <a:blip r:embed="rId1"/>
          <a:stretch/>
        </p:blipFill>
        <p:spPr>
          <a:xfrm>
            <a:off x="2268360" y="2565360"/>
            <a:ext cx="4658040" cy="296712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5"/>
          <p:cNvSpPr/>
          <p:nvPr/>
        </p:nvSpPr>
        <p:spPr>
          <a:xfrm>
            <a:off x="7243560" y="4046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脊髓损伤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BBF04-9E46-41F5-BA60-40E1CF46C875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571320" y="1844640"/>
            <a:ext cx="7816680" cy="38894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ts val="4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侧卧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66" name="Picture 4" descr="1"/>
          <p:cNvPicPr/>
          <p:nvPr/>
        </p:nvPicPr>
        <p:blipFill>
          <a:blip r:embed="rId1"/>
          <a:stretch/>
        </p:blipFill>
        <p:spPr>
          <a:xfrm>
            <a:off x="1547640" y="2708280"/>
            <a:ext cx="5905800" cy="304488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5"/>
          <p:cNvSpPr/>
          <p:nvPr/>
        </p:nvSpPr>
        <p:spPr>
          <a:xfrm>
            <a:off x="7243560" y="4046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脊髓损伤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0CA1D-5D37-4523-A1DA-E71313575132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571320" y="1844640"/>
            <a:ext cx="7816680" cy="46087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上肢功能位： 肩关节屈曲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5°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，外展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60°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无内、外旋）；肘关节屈曲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90°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；前臂中间位你（无旋前、旋后）；腕关节背伸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0°~45°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并稍内收（即稍尺侧屈）；各掌指关节和指间关节稍屈曲，由示指至小指屈曲度有规律地递增；拇指在对掌中间位（即在掌平面前方，其掌指关节半屈曲，指间关节轻微屈曲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0" name="Text Box 4"/>
          <p:cNvSpPr/>
          <p:nvPr/>
        </p:nvSpPr>
        <p:spPr>
          <a:xfrm>
            <a:off x="6543000" y="33336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骨关节疾病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C1A90-93D4-4802-BD02-A14B3E28A041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539640" y="1989000"/>
            <a:ext cx="7817040" cy="38894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ts val="4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下肢功能位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: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下肢髋伸直，无内、外旋，膝稍屈曲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20°~30°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，踝处于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90°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中间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ts val="4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3" name="Text Box 4"/>
          <p:cNvSpPr/>
          <p:nvPr/>
        </p:nvSpPr>
        <p:spPr>
          <a:xfrm>
            <a:off x="6543000" y="33336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骨关节疾病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626920" y="1942920"/>
            <a:ext cx="4248360" cy="46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体位摆放概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常见疾病体位摆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280"/>
            <a:chOff x="1819440" y="2219400"/>
            <a:chExt cx="688320" cy="59328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12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000"/>
            </a:xfrm>
            <a:prstGeom prst="hexagon">
              <a:avLst>
                <a:gd name="adj" fmla="val 29246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4" name=""/>
          <p:cNvGraphicFramePr/>
          <p:nvPr/>
        </p:nvGraphicFramePr>
        <p:xfrm>
          <a:off x="252360" y="1268280"/>
          <a:ext cx="8783640" cy="5480280"/>
        </p:xfrm>
        <a:graphic>
          <a:graphicData uri="http://schemas.openxmlformats.org/drawingml/2006/table">
            <a:tbl>
              <a:tblPr/>
              <a:tblGrid>
                <a:gridCol w="1282680"/>
                <a:gridCol w="3757680"/>
                <a:gridCol w="3743280"/>
              </a:tblGrid>
              <a:tr h="470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烧伤部位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可能出现的畸形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抗挛缩体位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头面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眼睑外翻，小口畸形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戴面具，使用开口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颈前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屈曲挛缩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去枕，颈部轻度伸展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肩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上提、后撤、内收、内旋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肩关节外展</a:t>
                      </a: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90°~100°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并外旋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肘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屈曲并前臂旋前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肘关节处于伸展位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手背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MP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过伸，</a:t>
                      </a: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PIP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和</a:t>
                      </a: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DIP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屈曲，拇指</a:t>
                      </a: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IP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屈曲并内收，掌弓变平（鹰爪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腕关节背伸</a:t>
                      </a: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20°~30°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，</a:t>
                      </a: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MP90°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，</a:t>
                      </a: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PIP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和</a:t>
                      </a: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DIP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均为</a:t>
                      </a: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0°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，拇指外展及对展位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手掌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PIP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和</a:t>
                      </a: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DIP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屈曲，拇指</a:t>
                      </a: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IP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屈曲并内收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MP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、</a:t>
                      </a: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PIP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和</a:t>
                      </a: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DIP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均为</a:t>
                      </a: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0°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，拇指外展，腕背伸</a:t>
                      </a: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20°~30°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脊柱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脊柱侧凸，脊柱后凸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脊柱伸展位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髋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屈曲、内收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髋关节中立伸展位：如大腿内侧烧伤，则髋外展</a:t>
                      </a: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15°~30°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膝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屈曲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膝关节伸直位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踝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足趾屈并内翻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踝关节背屈</a:t>
                      </a: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90°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位，防止跟腱挛缩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5" name="Text Box 53"/>
          <p:cNvSpPr/>
          <p:nvPr/>
        </p:nvSpPr>
        <p:spPr>
          <a:xfrm>
            <a:off x="5324400" y="404640"/>
            <a:ext cx="264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烧伤患者抗挛缩体位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9042C-F72D-48AE-8B68-050A735C7A4A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571320" y="1844280"/>
            <a:ext cx="8103960" cy="40323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定义  体位、良肢位、功能位、烧伤患者抗挛缩体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目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注意事项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常见疾病体位摆放方法  脑损伤患者的体位摆放（健侧卧位、患侧卧位、仰卧位）；脊髓损伤患者的体位摆放（仰卧位、侧卧位）；骨关节疾病患者的体位摆放（上肢功能位、下肢功能位）；烧伤患者体位摆放（身体各部位抗挛缩体位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8" name="Text Box 4"/>
          <p:cNvSpPr/>
          <p:nvPr/>
        </p:nvSpPr>
        <p:spPr>
          <a:xfrm>
            <a:off x="6451560" y="3333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课程总结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案例分析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28360" y="1341000"/>
            <a:ext cx="7507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ts val="4062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患者，男，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56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岁，脑梗塞后左侧偏瘫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0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天，查体：神志清楚，生命体征稳定；左侧肌张力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0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级，肌力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0~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级，不能自主翻身及体位移动，根据患者症状体征，早期进行康复护理介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ts val="4062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请为患者进行良肢位摆放，并向患者及家属讲解其目的及注意事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7EA1C-CB3F-4E36-BFCB-6B0653E931B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684360" y="1628640"/>
            <a:ext cx="8064360" cy="37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ct val="150000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识记：陈述体位、良肢位、功能位、抗挛缩体位的定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ct val="150000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理解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列举体位摆放的目的、注意事项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描述不同疾病体位摆放方法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ct val="150000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运用：能针对不同疾病给予正确的体位摆放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2123640" y="2997000"/>
            <a:ext cx="525636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Verdana"/>
                <a:ea typeface="华文新魏"/>
              </a:rPr>
              <a:t>一、体位摆放概述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C9AC4-E8DE-4FB7-A04C-4214F48772DE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684360" y="1413000"/>
            <a:ext cx="7480080" cy="30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体位（</a:t>
            </a:r>
            <a:r>
              <a:rPr b="1" lang="en-US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body position</a:t>
            </a: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）是指人体所处的某种姿势或某种位置。在临床上是指根据患者病情，针对护理、治疗或者康复需要所采取的治疗性姿势或身体所摆放的位置。康复护理中常用的体位摆放技术有良肢位、功能位、烧伤患者抗痉挛体位的摆放等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6987240" y="3333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体位定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2FED1-E421-442A-81E6-AAFD91348A32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1618920" y="1917360"/>
            <a:ext cx="5946840" cy="31431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Times New Roman"/>
                <a:ea typeface="华文新魏"/>
              </a:rPr>
              <a:t>良肢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Times New Roman"/>
                <a:ea typeface="华文新魏"/>
              </a:rPr>
              <a:t>功能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Times New Roman"/>
                <a:ea typeface="华文新魏"/>
              </a:rPr>
              <a:t>烧伤患者抗挛缩体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6987240" y="3333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常见类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0A64E-B0D8-4936-A6B9-D4EE20B4E3BB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323640" y="2349360"/>
            <a:ext cx="8358120" cy="37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良肢位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：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为预防和减轻痉挛姿势的出现，保护肩关节，早期诱发分离运动而设计的一种治疗体位。在脑损伤患者的康复护理中，良肢位摆放具有防止畸形，减轻症状，使躯干和肢体保持在功能状态的作用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1547640" y="1486080"/>
            <a:ext cx="226224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2060"/>
                </a:solidFill>
                <a:latin typeface="华文新魏"/>
                <a:ea typeface="华文新魏"/>
              </a:rPr>
              <a:t>定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Text Box 5"/>
          <p:cNvSpPr/>
          <p:nvPr/>
        </p:nvSpPr>
        <p:spPr>
          <a:xfrm>
            <a:off x="7553520" y="40464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良肢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42098-5719-4557-AF15-81DADEE0E6A2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252000" y="2133360"/>
            <a:ext cx="835812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功能位  指当肌肉、关节功能不能或尚未恢复时，必须使肢体处于发挥最佳功能活动的体位。这种体位就称为功能位，临床上常采用绷带、石膏、矫形支具、系列夹板等固定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title"/>
          </p:nvPr>
        </p:nvSpPr>
        <p:spPr>
          <a:xfrm>
            <a:off x="1403280" y="1196640"/>
            <a:ext cx="1542960" cy="6541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2060"/>
                </a:solidFill>
                <a:latin typeface="华文新魏"/>
                <a:ea typeface="华文新魏"/>
              </a:rPr>
              <a:t>定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Text Box 5"/>
          <p:cNvSpPr/>
          <p:nvPr/>
        </p:nvSpPr>
        <p:spPr>
          <a:xfrm>
            <a:off x="7553520" y="40464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功能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EACB4-81BB-4C32-8ABC-8934A18BD937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396720" y="2420640"/>
            <a:ext cx="835848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烧伤患者的抗挛缩体位  指烧伤患者应保持的正确体位，即应与烧伤部位软组织收缩方面相反的体位。这种体位有助于预防挛缩，因此在卧床期间应始终保持正确的体位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title"/>
          </p:nvPr>
        </p:nvSpPr>
        <p:spPr>
          <a:xfrm>
            <a:off x="1763280" y="1557360"/>
            <a:ext cx="22338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2060"/>
                </a:solidFill>
                <a:latin typeface="华文新魏"/>
                <a:ea typeface="华文新魏"/>
              </a:rPr>
              <a:t>定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Text Box 5"/>
          <p:cNvSpPr/>
          <p:nvPr/>
        </p:nvSpPr>
        <p:spPr>
          <a:xfrm>
            <a:off x="4521960" y="404640"/>
            <a:ext cx="261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烧伤患者的抗挛缩体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赵欣</cp:lastModifiedBy>
  <dcterms:modified xsi:type="dcterms:W3CDTF">2015-12-15T08:26:32Z</dcterms:modified>
  <cp:revision>1</cp:revision>
  <dc:subject/>
  <dc:title>   第五章  康复护理技术</dc:title>
</cp:coreProperties>
</file>